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D675-875B-45DC-A902-23BF5A64D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5BDA-642F-4B8C-AA1A-DA73CA788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8177-6171-4D23-98A8-17A9EFAF8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B2E6-9756-487F-96AD-12E086C0E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2CA0-064F-4F91-A6AF-DFEBBEEFE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24B5-0D2C-46C3-8C4E-8009A5FAA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6B55-C006-4D3F-8E57-3C4B5212D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1078-C920-4D2B-AB34-FECBA6E0F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D7AE-DAB8-494D-981C-7C6789B61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4515-16C1-4789-B269-66462D7C0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6EBD-8361-467A-9438-A9B68F6CB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F2E5-4C37-4B87-A9E0-163283A59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2CCF-4271-4ED7-A369-D93F6F569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3D4D-E47D-49EF-9A47-7A4C3DD4F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321B-EB45-4BDC-A6E7-9204ADF8C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0A1-46AB-44B1-8EDF-B61E688D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3511-8EF2-45CE-9D39-EE7240A5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487-C368-4C47-93EF-07B5AFBC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50F-3812-493E-8602-A49EEC42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F86-BA9B-4543-A3F5-48E8FD9F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0F1-E285-4898-B1B7-4E125BEC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D9E-64DC-4A60-B2ED-8EE4BAFD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D4F-4B84-4629-AAA3-A3EE33B4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222-25C3-4DFF-BE47-D731E9DC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A97-E2F8-4B1E-BB41-B57F3486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6CF-2CF3-45CC-AF59-783F1998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050-A766-4049-8259-925C50EB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67AB-1771-4911-BAEA-305BEA463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honors_algebra_2_homework_assign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2.5  Invers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Horizontal Line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determine whether a function’s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a function by seeing if the original function passes the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horizontal line tes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original function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rizontal line test, then its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inverse is a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original function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does not p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rizontal line test, then its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inverse is not a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Graph the function f(x)=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determine whether its inverse is a fun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572000" y="32004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does not pass the horizontal line test, therefore the inverse is not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3886200" y="2819520"/>
            <a:ext cx="5257800" cy="25146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[image]"/>
          <p:cNvPicPr/>
          <p:nvPr/>
        </p:nvPicPr>
        <p:blipFill>
          <a:blip r:embed="rId1"/>
          <a:stretch/>
        </p:blipFill>
        <p:spPr>
          <a:xfrm>
            <a:off x="228600" y="1905120"/>
            <a:ext cx="411480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Line 9"/>
          <p:cNvSpPr/>
          <p:nvPr/>
        </p:nvSpPr>
        <p:spPr>
          <a:xfrm>
            <a:off x="380880" y="3657600"/>
            <a:ext cx="350532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arrow" w="med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f(x)=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  Determine whether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is a function, then find the inverse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7"/>
              <p:cNvSpPr txBox="1"/>
              <p:nvPr/>
            </p:nvSpPr>
            <p:spPr>
              <a:xfrm>
                <a:off x="5562720" y="3665520"/>
                <a:ext cx="14349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" name="Text Box 4"/>
          <p:cNvSpPr/>
          <p:nvPr/>
        </p:nvSpPr>
        <p:spPr>
          <a:xfrm>
            <a:off x="380880" y="59436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is not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0" y="5715000"/>
            <a:ext cx="4419720" cy="9144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562720" y="17524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2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+4 = 2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9"/>
              <p:cNvSpPr txBox="1"/>
              <p:nvPr/>
            </p:nvSpPr>
            <p:spPr>
              <a:xfrm>
                <a:off x="5410080" y="4419720"/>
                <a:ext cx="196704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5" name="Oval 11"/>
          <p:cNvSpPr/>
          <p:nvPr/>
        </p:nvSpPr>
        <p:spPr>
          <a:xfrm>
            <a:off x="5257800" y="4419720"/>
            <a:ext cx="2514600" cy="1218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4"/>
              <p:cNvSpPr txBox="1"/>
              <p:nvPr/>
            </p:nvSpPr>
            <p:spPr>
              <a:xfrm>
                <a:off x="7162920" y="5410080"/>
                <a:ext cx="17524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7" name="Text Box 16"/>
          <p:cNvSpPr/>
          <p:nvPr/>
        </p:nvSpPr>
        <p:spPr>
          <a:xfrm>
            <a:off x="5105520" y="57913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if you fix the tent in the baseme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7"/>
          <p:cNvSpPr/>
          <p:nvPr/>
        </p:nvSpPr>
        <p:spPr>
          <a:xfrm>
            <a:off x="7086600" y="5334120"/>
            <a:ext cx="2057400" cy="1218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0" descr="[image]"/>
          <p:cNvPicPr/>
          <p:nvPr/>
        </p:nvPicPr>
        <p:blipFill>
          <a:blip r:embed="rId1"/>
          <a:stretch/>
        </p:blipFill>
        <p:spPr>
          <a:xfrm>
            <a:off x="609480" y="1447920"/>
            <a:ext cx="4038840" cy="4038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Line 22"/>
          <p:cNvSpPr/>
          <p:nvPr/>
        </p:nvSpPr>
        <p:spPr>
          <a:xfrm>
            <a:off x="1143000" y="2819520"/>
            <a:ext cx="289548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arrow" w="med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 g(x)=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4920" y="5867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 is a func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[image]"/>
          <p:cNvPicPr/>
          <p:nvPr/>
        </p:nvPicPr>
        <p:blipFill>
          <a:blip r:embed="rId1"/>
          <a:stretch/>
        </p:blipFill>
        <p:spPr>
          <a:xfrm>
            <a:off x="457200" y="1523880"/>
            <a:ext cx="4248000" cy="424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Line 13"/>
          <p:cNvSpPr/>
          <p:nvPr/>
        </p:nvSpPr>
        <p:spPr>
          <a:xfrm>
            <a:off x="757080" y="2211480"/>
            <a:ext cx="350064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arrow" w="med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1068480" y="3043080"/>
            <a:ext cx="289692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arrow" w="med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990720" y="4267080"/>
            <a:ext cx="304776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arrow" w="med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952880" y="1523880"/>
            <a:ext cx="396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5791320" y="1523880"/>
            <a:ext cx="198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2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9"/>
              <p:cNvSpPr txBox="1"/>
              <p:nvPr/>
            </p:nvSpPr>
            <p:spPr>
              <a:xfrm>
                <a:off x="5727600" y="2590920"/>
                <a:ext cx="1117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1"/>
              <p:cNvSpPr txBox="1"/>
              <p:nvPr/>
            </p:nvSpPr>
            <p:spPr>
              <a:xfrm>
                <a:off x="5562720" y="3505320"/>
                <a:ext cx="1447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3"/>
              <p:cNvSpPr txBox="1"/>
              <p:nvPr/>
            </p:nvSpPr>
            <p:spPr>
              <a:xfrm>
                <a:off x="5334120" y="4495680"/>
                <a:ext cx="152388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2" name="Text Box 25"/>
          <p:cNvSpPr/>
          <p:nvPr/>
        </p:nvSpPr>
        <p:spPr>
          <a:xfrm>
            <a:off x="4495680" y="57913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if you fix the tent in the basem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6"/>
              <p:cNvSpPr txBox="1"/>
              <p:nvPr/>
            </p:nvSpPr>
            <p:spPr>
              <a:xfrm>
                <a:off x="6934320" y="5562720"/>
                <a:ext cx="1371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Oval 28"/>
          <p:cNvSpPr/>
          <p:nvPr/>
        </p:nvSpPr>
        <p:spPr>
          <a:xfrm>
            <a:off x="5105520" y="4419720"/>
            <a:ext cx="2133360" cy="1218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9"/>
          <p:cNvSpPr/>
          <p:nvPr/>
        </p:nvSpPr>
        <p:spPr>
          <a:xfrm>
            <a:off x="6705720" y="5486400"/>
            <a:ext cx="1981080" cy="1143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0"/>
          <p:cNvSpPr/>
          <p:nvPr/>
        </p:nvSpPr>
        <p:spPr>
          <a:xfrm>
            <a:off x="0" y="5638680"/>
            <a:ext cx="4114800" cy="990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ssig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 Up 03/30/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80880" y="914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(x) + g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692280" y="1447920"/>
          <a:ext cx="495288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447920"/>
                    <a:ext cx="49528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5"/>
          <p:cNvSpPr/>
          <p:nvPr/>
        </p:nvSpPr>
        <p:spPr>
          <a:xfrm>
            <a:off x="380880" y="1905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(x) * g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6"/>
          <p:cNvGraphicFramePr/>
          <p:nvPr/>
        </p:nvGraphicFramePr>
        <p:xfrm>
          <a:off x="609480" y="2438280"/>
          <a:ext cx="401328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438280"/>
                    <a:ext cx="40132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7"/>
          <p:cNvSpPr/>
          <p:nvPr/>
        </p:nvSpPr>
        <p:spPr>
          <a:xfrm>
            <a:off x="457200" y="3200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(x) / g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8"/>
          <p:cNvGraphicFramePr/>
          <p:nvPr/>
        </p:nvGraphicFramePr>
        <p:xfrm>
          <a:off x="762120" y="3733920"/>
          <a:ext cx="36068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733920"/>
                    <a:ext cx="3606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9"/>
          <p:cNvSpPr/>
          <p:nvPr/>
        </p:nvSpPr>
        <p:spPr>
          <a:xfrm>
            <a:off x="304920" y="44197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(g(x)) and g(f(x)). Also state th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0"/>
          <p:cNvGraphicFramePr/>
          <p:nvPr/>
        </p:nvGraphicFramePr>
        <p:xfrm>
          <a:off x="609480" y="4876920"/>
          <a:ext cx="356868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4876920"/>
                    <a:ext cx="3568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view from 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mapping of input values (x-values) onto output values (y-valu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3 ways to show the same re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3520" y="342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666880" y="3124080"/>
            <a:ext cx="2210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   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590920" y="38098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3352680" y="32767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[image]"/>
          <p:cNvPicPr/>
          <p:nvPr/>
        </p:nvPicPr>
        <p:blipFill>
          <a:blip r:embed="rId1"/>
          <a:stretch/>
        </p:blipFill>
        <p:spPr>
          <a:xfrm>
            <a:off x="4724280" y="3048120"/>
            <a:ext cx="358164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Oval 12"/>
          <p:cNvSpPr/>
          <p:nvPr/>
        </p:nvSpPr>
        <p:spPr>
          <a:xfrm>
            <a:off x="380880" y="3352680"/>
            <a:ext cx="1447920" cy="6858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2286000" y="3048120"/>
            <a:ext cx="1981080" cy="38098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4"/>
          <p:cNvSpPr/>
          <p:nvPr/>
        </p:nvSpPr>
        <p:spPr>
          <a:xfrm>
            <a:off x="4724280" y="3124080"/>
            <a:ext cx="3581640" cy="29718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04920" y="4419720"/>
            <a:ext cx="1676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3071880"/>
            <a:ext cx="60948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verse re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just think: switch the x &amp; y-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29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533520" y="1905120"/>
                <a:ext cx="1143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8" name="Oval 8"/>
          <p:cNvSpPr/>
          <p:nvPr/>
        </p:nvSpPr>
        <p:spPr>
          <a:xfrm>
            <a:off x="304920" y="1905120"/>
            <a:ext cx="1600200" cy="7588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666880" y="1219320"/>
            <a:ext cx="2133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  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2514600" y="1905120"/>
            <a:ext cx="1676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3352680" y="1143000"/>
            <a:ext cx="0" cy="3276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[image]"/>
          <p:cNvPicPr/>
          <p:nvPr/>
        </p:nvPicPr>
        <p:blipFill>
          <a:blip r:embed="rId1"/>
          <a:stretch/>
        </p:blipFill>
        <p:spPr>
          <a:xfrm>
            <a:off x="4800600" y="990720"/>
            <a:ext cx="3905280" cy="3905280"/>
          </a:xfrm>
          <a:prstGeom prst="rect">
            <a:avLst/>
          </a:prstGeom>
          <a:ln w="0">
            <a:noFill/>
          </a:ln>
        </p:spPr>
      </p:pic>
      <p:sp>
        <p:nvSpPr>
          <p:cNvPr id="83" name="Oval 17"/>
          <p:cNvSpPr/>
          <p:nvPr/>
        </p:nvSpPr>
        <p:spPr>
          <a:xfrm>
            <a:off x="2209680" y="990720"/>
            <a:ext cx="2362320" cy="40384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8"/>
          <p:cNvSpPr/>
          <p:nvPr/>
        </p:nvSpPr>
        <p:spPr>
          <a:xfrm>
            <a:off x="5105520" y="1295280"/>
            <a:ext cx="3809880" cy="3429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0" y="32004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* the inverse of an equation: switch the x &amp; 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2514600" y="49528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* the inverse of a table: switch the x &amp;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5257800" y="495288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* the inverse of a graph: the reflection of the original graph in the line y =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:  Find an inverse of y = -3x+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:  -switch x &amp;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olve for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-3x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-3y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6 = -3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4038480" y="4419720"/>
                <a:ext cx="13716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4038480" y="5486400"/>
                <a:ext cx="1371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Oval 8"/>
          <p:cNvSpPr/>
          <p:nvPr/>
        </p:nvSpPr>
        <p:spPr>
          <a:xfrm>
            <a:off x="3886200" y="5334120"/>
            <a:ext cx="1676520" cy="1218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 rot="2089800">
            <a:off x="4419360" y="2971800"/>
            <a:ext cx="990360" cy="838080"/>
          </a:xfrm>
          <a:prstGeom prst="pie">
            <a:avLst/>
          </a:prstGeom>
          <a:solidFill>
            <a:srgbClr val="ff00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2 functions, f(x) &amp; g(x), if f(g(x))=x AND g(f(x))=x, then f(x) &amp; g(x) are inverses of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419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 means “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Verify that f(x)=-3x+6 and g(x)=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 are inver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find f(g(x)) and g(f(x)).  If they both equal x, then they are inver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04920" y="2286000"/>
            <a:ext cx="3504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g(x))= -3(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+2)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x-6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648320" y="2286000"/>
            <a:ext cx="3962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f(x))= 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3x+6)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x-2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447920" y="3581280"/>
            <a:ext cx="609480" cy="5335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5715000" y="3581280"/>
            <a:ext cx="685800" cy="5335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0" y="5791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 Because f(g(x))=x and g(f(x))=x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y are inver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 flipV="1">
            <a:off x="2057040" y="4114800"/>
            <a:ext cx="762120" cy="17524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4952880" y="4191120"/>
            <a:ext cx="914400" cy="16761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o find the inverse of a func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f(x) to a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the x &amp; y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new equation for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 Rememb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o pass the vertical line t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(a)Find the inverse of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914400" y="2743200"/>
                <a:ext cx="16765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990720" y="3429000"/>
                <a:ext cx="1295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1066680" y="4267080"/>
                <a:ext cx="1295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3" name="Oval 10"/>
          <p:cNvSpPr/>
          <p:nvPr/>
        </p:nvSpPr>
        <p:spPr>
          <a:xfrm>
            <a:off x="838080" y="4191120"/>
            <a:ext cx="1828800" cy="10666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505320" y="1219320"/>
            <a:ext cx="4800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Is f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a fun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int: look at the grap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pass the vertical line tes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4" descr="[image]"/>
          <p:cNvPicPr/>
          <p:nvPr/>
        </p:nvPicPr>
        <p:blipFill>
          <a:blip r:embed="rId1"/>
          <a:stretch/>
        </p:blipFill>
        <p:spPr>
          <a:xfrm>
            <a:off x="4572000" y="3048120"/>
            <a:ext cx="4343400" cy="3746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6" name="Line 16"/>
          <p:cNvSpPr/>
          <p:nvPr/>
        </p:nvSpPr>
        <p:spPr>
          <a:xfrm>
            <a:off x="5486400" y="3200400"/>
            <a:ext cx="0" cy="320040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6172200" y="3200400"/>
            <a:ext cx="0" cy="327672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7162920" y="3276720"/>
            <a:ext cx="0" cy="312408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609480" y="591192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 , f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is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 flipV="1">
            <a:off x="1447920" y="5029200"/>
            <a:ext cx="75960" cy="990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 flipV="1">
            <a:off x="2814480" y="5482800"/>
            <a:ext cx="1828800" cy="6858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4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4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4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9:04:48Z</dcterms:created>
  <dc:creator>julie.geoghagan</dc:creator>
  <dc:description/>
  <dc:language>en-US</dc:language>
  <cp:lastModifiedBy> </cp:lastModifiedBy>
  <dcterms:modified xsi:type="dcterms:W3CDTF">2009-08-04T23:05:57Z</dcterms:modified>
  <cp:revision>17</cp:revision>
  <dc:subject/>
  <dc:title>7.4  </dc:title>
</cp:coreProperties>
</file>